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4088-AEBE-4F66-AD30-3B7248EE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F3D8-3449-403A-9328-18177085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509B-BD3B-4C1B-94EB-DE5749F6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616B-84F2-451E-BDB3-69F8E697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BE81-95E9-4326-B0F2-453B9186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7AFE-5D60-4BF6-9CA7-03FDE3B3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6504-7ED0-4692-BF74-8CC6033D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AC87-3550-45D5-8869-41B81E56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86A7-9B18-4C30-B539-65CB8CCF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65CC-4635-4A71-B0EB-88050D30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CD33-EF45-4651-9416-1E12FC90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3AB6-8555-4BEF-94A8-CC1FE03B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533C-5A62-48B9-8A2A-BD49018B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4806-C55C-4FE6-A0E0-99ADC346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CB59-850D-42A9-A55F-424C3251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319B-648B-4214-9F08-38DB1128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C752-955F-4300-82B1-82C937FD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9D06-F4BE-441B-959E-3683AEF4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8CBB-AF2E-4815-AA0D-A872A174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93BA-AE77-43C4-9913-6DE549A3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E1B4-A16F-4D64-8561-E14D290E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E866-904E-4E21-B4FC-A126B159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B2A0-EAB7-4F38-84D2-D9F4A913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65DB-B252-4D78-88F8-94D1E559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47D0-4F58-4A78-8E81-A2698E07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6685-ECFE-4671-897A-B8776F44D1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Garamond"/>
              </a:rPr>
              <a:t>Friction</a:t>
            </a:r>
            <a:endParaRPr b="1" lang="en-US" sz="8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257800" y="5334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friction mower.jpg"/>
          <p:cNvPicPr/>
          <p:nvPr/>
        </p:nvPicPr>
        <p:blipFill>
          <a:blip r:embed="rId1"/>
          <a:stretch/>
        </p:blipFill>
        <p:spPr>
          <a:xfrm>
            <a:off x="2286000" y="2336760"/>
            <a:ext cx="4724280" cy="4097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erlin Sans FB Demi"/>
              </a:rPr>
              <a:t>Static vs. Kinetic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39" name="Content Placeholder 3" descr="static vs kin diagram.jpg"/>
          <p:cNvPicPr/>
          <p:nvPr/>
        </p:nvPicPr>
        <p:blipFill>
          <a:blip r:embed="rId1"/>
          <a:stretch/>
        </p:blipFill>
        <p:spPr>
          <a:xfrm>
            <a:off x="233280" y="1523880"/>
            <a:ext cx="8910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Example 1 </a:t>
            </a:r>
            <a:r>
              <a:rPr b="0" lang="en-US" sz="5400" spc="-1" strike="noStrike">
                <a:solidFill>
                  <a:srgbClr val="666699"/>
                </a:solidFill>
                <a:latin typeface="Garamond"/>
              </a:rPr>
              <a:t>- 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A 10-kg box rests on a horizontal floor.  The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= 0.30 and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= 0.40   Determine how much force is needed to move the box and comment on whether or not there is motion when the applied force, F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, is exerted on it at these magnitudes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438280" cy="1943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28600" y="4114800"/>
            <a:ext cx="5105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0 N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0 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8 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0 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705720" y="320040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EXAMPLE 2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10 kg box is on a horizontal surface, but an applied force of 40 N acts at an angle 3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horizontal.  A) What will be the acceleration of the box if friction is ignored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) What is the normal for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olving Process: First make a FB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Free Body Diagram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R PART 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olve for vector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which stands for F in the x direction; then plug into F = 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= cos 30 = adj / 40;  35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5N = 10 kg(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= 3.5 m/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152880" cy="22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Free Body Diagram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R PART B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olve for vector 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which simply stands for the F in the y direction; then plug into 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= mg - 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in 30 = opp / 40; 20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= 98N – 20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= 78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152880" cy="22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Garamond"/>
              </a:rPr>
              <a:t>Newton’s Second Law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W = m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1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ives us F = m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Garamond"/>
              </a:rPr>
              <a:t>Friction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force which resists sliding or rolling motion by opposing the movement of one body over or through an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3200400"/>
          <a:ext cx="8077320" cy="342432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n be useful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n be harmful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Needed for walking, biking, driv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Slows down machin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Without it, couldn’t stop a car; would look funny walk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 Makes us apply more eff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19" descr="footprints.gif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0" name="Content Placeholder 3" descr="moving furniture.jpg"/>
          <p:cNvPicPr/>
          <p:nvPr/>
        </p:nvPicPr>
        <p:blipFill>
          <a:blip r:embed="rId1"/>
          <a:stretch/>
        </p:blipFill>
        <p:spPr>
          <a:xfrm>
            <a:off x="669960" y="109440"/>
            <a:ext cx="2609640" cy="517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pistons in engine.jpg"/>
          <p:cNvPicPr/>
          <p:nvPr/>
        </p:nvPicPr>
        <p:blipFill>
          <a:blip r:embed="rId2"/>
          <a:stretch/>
        </p:blipFill>
        <p:spPr>
          <a:xfrm>
            <a:off x="6089760" y="2359080"/>
            <a:ext cx="2908080" cy="2498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rock climbing.jpg"/>
          <p:cNvPicPr/>
          <p:nvPr/>
        </p:nvPicPr>
        <p:blipFill>
          <a:blip r:embed="rId3"/>
          <a:stretch/>
        </p:blipFill>
        <p:spPr>
          <a:xfrm>
            <a:off x="5559480" y="4900680"/>
            <a:ext cx="3779640" cy="2274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braking car.jpg"/>
          <p:cNvPicPr/>
          <p:nvPr/>
        </p:nvPicPr>
        <p:blipFill>
          <a:blip r:embed="rId4"/>
          <a:stretch/>
        </p:blipFill>
        <p:spPr>
          <a:xfrm>
            <a:off x="-6480" y="3121200"/>
            <a:ext cx="3402000" cy="176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snow skiing.jpg"/>
          <p:cNvPicPr/>
          <p:nvPr/>
        </p:nvPicPr>
        <p:blipFill>
          <a:blip r:embed="rId5"/>
          <a:stretch/>
        </p:blipFill>
        <p:spPr>
          <a:xfrm>
            <a:off x="3486240" y="4816440"/>
            <a:ext cx="2281320" cy="3821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water slide.jpg"/>
          <p:cNvPicPr/>
          <p:nvPr/>
        </p:nvPicPr>
        <p:blipFill>
          <a:blip r:embed="rId6"/>
          <a:stretch/>
        </p:blipFill>
        <p:spPr>
          <a:xfrm>
            <a:off x="6480" y="4950000"/>
            <a:ext cx="3133440" cy="2041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bball player.jpg"/>
          <p:cNvPicPr/>
          <p:nvPr/>
        </p:nvPicPr>
        <p:blipFill>
          <a:blip r:embed="rId7"/>
          <a:stretch/>
        </p:blipFill>
        <p:spPr>
          <a:xfrm>
            <a:off x="3346560" y="2511360"/>
            <a:ext cx="2670120" cy="22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receiver.jpg"/>
          <p:cNvPicPr/>
          <p:nvPr/>
        </p:nvPicPr>
        <p:blipFill>
          <a:blip r:embed="rId8"/>
          <a:stretch/>
        </p:blipFill>
        <p:spPr>
          <a:xfrm>
            <a:off x="4492800" y="225360"/>
            <a:ext cx="382248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aramond"/>
              </a:rPr>
              <a:t>Types of Friction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) Kinetic Friction 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Exists as an object slides across a surf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ka – “sliding friction” (kinetic = mov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) Static Friction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 force present b/w two surfaces even when objects are not sli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Garamond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Coefficient of Friction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mount of “grip” of a surf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value ranging from 0-1, rating 2 surfa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higher the value (closer to 1) the greater the gr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ymbol: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= coefficient of kinetic fri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= coefficient of static fri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Berlin Sans FB Demi"/>
              </a:rPr>
              <a:t>Table of Coefficients of Friction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23" name="Content Placeholder 3" descr="coeff table 2.jpg"/>
          <p:cNvPicPr/>
          <p:nvPr/>
        </p:nvPicPr>
        <p:blipFill>
          <a:blip r:embed="rId1"/>
          <a:stretch/>
        </p:blipFill>
        <p:spPr>
          <a:xfrm>
            <a:off x="762120" y="1828800"/>
            <a:ext cx="7453080" cy="50292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4423320" y="129528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Berlin Sans FB Demi"/>
              </a:rPr>
              <a:t>St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393960" y="137160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erlin Sans FB Demi"/>
              </a:rPr>
              <a:t>Kinet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Relationship to FBD’s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4267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Garamond"/>
              </a:rPr>
              <a:t>f</a:t>
            </a: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 = 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Garamond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57200" y="289548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iction   Fo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819520" y="4648320"/>
            <a:ext cx="259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efficient of Friction (This is either static or kinet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867280" y="220968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rmal Force (Force acting _|_ to the surfa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7"/>
          <p:cNvSpPr/>
          <p:nvPr/>
        </p:nvSpPr>
        <p:spPr>
          <a:xfrm flipV="1">
            <a:off x="1828800" y="281952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8"/>
          <p:cNvSpPr/>
          <p:nvPr/>
        </p:nvSpPr>
        <p:spPr>
          <a:xfrm flipV="1">
            <a:off x="3962520" y="2895480"/>
            <a:ext cx="15228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5105160" y="2362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35" name="Content Placeholder 3" descr="static vs kinetic fric graph.jpg"/>
          <p:cNvPicPr/>
          <p:nvPr/>
        </p:nvPicPr>
        <p:blipFill>
          <a:blip r:embed="rId1"/>
          <a:stretch/>
        </p:blipFill>
        <p:spPr>
          <a:xfrm>
            <a:off x="609480" y="762120"/>
            <a:ext cx="6742080" cy="59436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4"/>
          <p:cNvSpPr/>
          <p:nvPr/>
        </p:nvSpPr>
        <p:spPr>
          <a:xfrm>
            <a:off x="4267080" y="3886200"/>
            <a:ext cx="2590920" cy="1828800"/>
          </a:xfrm>
          <a:prstGeom prst="wedgeRoundRectCallout">
            <a:avLst>
              <a:gd name="adj1" fmla="val -117402"/>
              <a:gd name="adj2" fmla="val -20027"/>
              <a:gd name="adj3" fmla="val 16667"/>
            </a:avLst>
          </a:prstGeom>
          <a:solidFill>
            <a:srgbClr val="2e2e4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tatic Friction increases steadily as force is applied until the objects begins mov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ounded Rectangular Callout 5"/>
          <p:cNvSpPr/>
          <p:nvPr/>
        </p:nvSpPr>
        <p:spPr>
          <a:xfrm>
            <a:off x="6400800" y="838080"/>
            <a:ext cx="2438280" cy="1752840"/>
          </a:xfrm>
          <a:prstGeom prst="wedgeRoundRectCallout">
            <a:avLst>
              <a:gd name="adj1" fmla="val -122759"/>
              <a:gd name="adj2" fmla="val 102310"/>
              <a:gd name="adj3" fmla="val 16667"/>
            </a:avLst>
          </a:prstGeom>
          <a:solidFill>
            <a:srgbClr val="ae0d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is represents the kinetic friction once the object is moving at a constant ra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4:52:46Z</dcterms:created>
  <dc:creator>marti andreski</dc:creator>
  <dc:description/>
  <dc:language>en-US</dc:language>
  <cp:lastModifiedBy>jluckey</cp:lastModifiedBy>
  <dcterms:modified xsi:type="dcterms:W3CDTF">2012-01-04T15:24:43Z</dcterms:modified>
  <cp:revision>66</cp:revision>
  <dc:subject/>
  <dc:title>Why Study Physics?</dc:title>
</cp:coreProperties>
</file>